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D8D45-383D-4AC7-B69E-7386C3BBC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5098D-C0AC-487C-9ABD-22E000E92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B6EC4-F61B-4EB3-9AC2-3FC475510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28912-6359-4C95-99D6-0592B0C1D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8E73D-B8D4-4D4C-A516-034B0444B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6FBDD-61D0-436E-BBA3-3F01BC751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1874D-52E0-4C00-B0DB-FBC36447A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9288A-7E7B-43D9-B869-64389DFA1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4BC72-EC38-4A87-BDB5-AC24CB299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1138E-CF33-474B-94F3-79DB75F70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93EAB-870E-4A05-B603-7E1E8D4CB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BF067-F33D-4741-806F-B3A393122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E7D45-0403-4E26-AB0C-8735655173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809640" y="0"/>
            <a:ext cx="7524720" cy="673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5 minute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starter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" dur="5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" dur="5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" dur="5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" name=""/>
          <p:cNvGraphicFramePr/>
          <p:nvPr/>
        </p:nvGraphicFramePr>
        <p:xfrm>
          <a:off x="2376360" y="1349280"/>
          <a:ext cx="4405320" cy="4160880"/>
        </p:xfrm>
        <a:graphic>
          <a:graphicData uri="http://schemas.openxmlformats.org/drawingml/2006/table">
            <a:tbl>
              <a:tblPr/>
              <a:tblGrid>
                <a:gridCol w="1459080"/>
                <a:gridCol w="1492200"/>
                <a:gridCol w="1454040"/>
              </a:tblGrid>
              <a:tr h="1362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?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?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?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61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 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?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?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?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36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?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?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?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7559640" y="1844640"/>
            <a:ext cx="720720" cy="5205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4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27280" y="6058080"/>
            <a:ext cx="900000" cy="5205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22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596360" y="4545000"/>
            <a:ext cx="720720" cy="5205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559640" y="3168720"/>
            <a:ext cx="900000" cy="5205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24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488360" y="297000"/>
            <a:ext cx="720720" cy="5205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4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796000" y="6058080"/>
            <a:ext cx="720720" cy="5205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103640" y="6058080"/>
            <a:ext cx="936720" cy="5205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13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632720" y="5805360"/>
            <a:ext cx="720720" cy="5205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3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6877080" y="800280"/>
            <a:ext cx="611280" cy="504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6948360" y="2097000"/>
            <a:ext cx="611280" cy="36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 flipV="1">
            <a:off x="6877080" y="5552640"/>
            <a:ext cx="719280" cy="360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6911640" y="4869000"/>
            <a:ext cx="647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948000" y="3429000"/>
            <a:ext cx="576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059280" y="5697360"/>
            <a:ext cx="0" cy="360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4572000" y="5697360"/>
            <a:ext cx="0" cy="360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6119640" y="5697360"/>
            <a:ext cx="0" cy="360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58920" y="2565360"/>
            <a:ext cx="1117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771640" y="1628640"/>
            <a:ext cx="828720" cy="825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ahoma"/>
              </a:rPr>
              <a:t>7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356000" y="3016080"/>
            <a:ext cx="828720" cy="825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651640" y="4292640"/>
            <a:ext cx="828360" cy="825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319640" y="4292640"/>
            <a:ext cx="828720" cy="825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ahoma"/>
              </a:rPr>
              <a:t>9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35280" y="4329000"/>
            <a:ext cx="828720" cy="825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688000" y="1592280"/>
            <a:ext cx="828720" cy="825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319640" y="1628640"/>
            <a:ext cx="828720" cy="825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651640" y="3016080"/>
            <a:ext cx="828360" cy="825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735280" y="3016080"/>
            <a:ext cx="828720" cy="825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ahoma"/>
              </a:rPr>
              <a:t>8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8T21:19:45Z</dcterms:created>
  <dc:creator>Trifon</dc:creator>
  <dc:description/>
  <dc:language>en-US</dc:language>
  <cp:lastModifiedBy>Trifon</cp:lastModifiedBy>
  <dcterms:modified xsi:type="dcterms:W3CDTF">2003-10-28T21:25:30Z</dcterms:modified>
  <cp:revision>2</cp:revision>
  <dc:subject/>
  <dc:title>Slide 1</dc:title>
</cp:coreProperties>
</file>